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STHEME2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8D20-697B-4E1E-A42D-A7808D6B4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EE7C-0DA7-4080-9539-A0730AB119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“You Choose a Name” &amp; then on the WordArt toolbar, click on Edit Text.  It could be Science Jeopardy or Social Studies Jeopardy…or whate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15E5-E5B3-457A-9FFB-C893CC5D1D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revise this section.  Think about which rules you want to use before you play.  Revise the rules accordingly.  Don’t move past this screen until the team names &amp; buzzer sounds are decided.  Decide who keeps score &amp; who is the ju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323A-63EE-4653-9FBC-581662DDBF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game board.  Change each of the categories at the top of the five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1297-70DF-474F-B6AE-55F029032C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“Category 1” for the Category you’ve chosen on the previous slide.  Then Click &amp; Drag to select “Type your question(answer) here.” Type the new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DF6A-B880-46F0-9C8D-BD917AE855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out Category 1 for the category you’ve chosen.  Change out the Answer above with the correct answer.  Double-click on left to add clipart to your page.  Click on the U (action button) to take you back to the game board.  It’s important to click on this to take you back…otherwise you go to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D787-B3E5-4BD8-BD4D-31F3C21C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CAFA-66FF-4607-B3CF-45CDF7C8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756-FFF8-4FC0-BC64-F2994344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404-E44B-4BEB-9251-AE735596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E137-2B17-4348-AE97-5C18C3B9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4D70-95BE-48E8-9DD8-C7AA1D14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C47-086E-4093-AA53-5DF9B76A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5C2C-C95F-43B9-950C-763BF7CC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DB15-D03D-4A77-800B-1B1AF8E6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614D-DAFF-4771-8247-0E941BB5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E7BA-ED17-47FA-9928-73560D4A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4BE-A571-4849-8B94-0033EA29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878F-5B07-4DF1-96AD-FCF5E7244440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STHEME2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26.xml"/><Relationship Id="rId13" Type="http://schemas.openxmlformats.org/officeDocument/2006/relationships/slide" Target="slide28.xml"/><Relationship Id="rId14" Type="http://schemas.openxmlformats.org/officeDocument/2006/relationships/slide" Target="slide30.xml"/><Relationship Id="rId15" Type="http://schemas.openxmlformats.org/officeDocument/2006/relationships/slide" Target="slide32.xml"/><Relationship Id="rId16" Type="http://schemas.openxmlformats.org/officeDocument/2006/relationships/slide" Target="slide34.xml"/><Relationship Id="rId17" Type="http://schemas.openxmlformats.org/officeDocument/2006/relationships/slide" Target="slide36.xml"/><Relationship Id="rId18" Type="http://schemas.openxmlformats.org/officeDocument/2006/relationships/slide" Target="slide38.xml"/><Relationship Id="rId19" Type="http://schemas.openxmlformats.org/officeDocument/2006/relationships/slide" Target="slide40.xml"/><Relationship Id="rId20" Type="http://schemas.openxmlformats.org/officeDocument/2006/relationships/slide" Target="slide42.xml"/><Relationship Id="rId21" Type="http://schemas.openxmlformats.org/officeDocument/2006/relationships/slide" Target="slide44.xml"/><Relationship Id="rId22" Type="http://schemas.openxmlformats.org/officeDocument/2006/relationships/slide" Target="slide46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slide52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2514600" y="2666880"/>
            <a:ext cx="40384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00200" y="533520"/>
            <a:ext cx="62485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Read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2743200" y="556272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Contraction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STHEME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n’t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uldn’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n’t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5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590560"/>
            <a:ext cx="70102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ul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n’t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n’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n’t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1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72388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o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e / ‘d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’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e / ‘d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16256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r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e / ‘d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’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e / ‘d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2666880"/>
            <a:ext cx="7086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you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r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e / ‘d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’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e / ‘d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2590560"/>
            <a:ext cx="70102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y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r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ules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ways answer in the form of a ques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0 Points deducted for wrong answers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e / ‘d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’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e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8960" y="2590560"/>
            <a:ext cx="6933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ould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r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ha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e / ‘d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’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e / ‘d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73152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you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ould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r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ha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ll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’l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ll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7696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ill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ll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e’l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ll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h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ill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ll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’l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ll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266688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ill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094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6094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094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094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094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28"/>
          <p:cNvSpPr/>
          <p:nvPr/>
        </p:nvSpPr>
        <p:spPr>
          <a:xfrm>
            <a:off x="6094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’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9"/>
          <p:cNvSpPr/>
          <p:nvPr/>
        </p:nvSpPr>
        <p:spPr>
          <a:xfrm>
            <a:off x="22096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 / ‘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30"/>
          <p:cNvSpPr/>
          <p:nvPr/>
        </p:nvSpPr>
        <p:spPr>
          <a:xfrm>
            <a:off x="38098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31"/>
          <p:cNvSpPr/>
          <p:nvPr/>
        </p:nvSpPr>
        <p:spPr>
          <a:xfrm>
            <a:off x="54100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2"/>
          <p:cNvSpPr/>
          <p:nvPr/>
        </p:nvSpPr>
        <p:spPr>
          <a:xfrm>
            <a:off x="70102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b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33"/>
          <p:cNvSpPr/>
          <p:nvPr/>
        </p:nvSpPr>
        <p:spPr>
          <a:xfrm>
            <a:off x="22096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34"/>
          <p:cNvSpPr/>
          <p:nvPr/>
        </p:nvSpPr>
        <p:spPr>
          <a:xfrm>
            <a:off x="22096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5"/>
          <p:cNvSpPr/>
          <p:nvPr/>
        </p:nvSpPr>
        <p:spPr>
          <a:xfrm>
            <a:off x="22096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6"/>
          <p:cNvSpPr/>
          <p:nvPr/>
        </p:nvSpPr>
        <p:spPr>
          <a:xfrm>
            <a:off x="22096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37"/>
          <p:cNvSpPr/>
          <p:nvPr/>
        </p:nvSpPr>
        <p:spPr>
          <a:xfrm>
            <a:off x="22096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38"/>
          <p:cNvSpPr/>
          <p:nvPr/>
        </p:nvSpPr>
        <p:spPr>
          <a:xfrm>
            <a:off x="38098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39"/>
          <p:cNvSpPr/>
          <p:nvPr/>
        </p:nvSpPr>
        <p:spPr>
          <a:xfrm>
            <a:off x="38098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40"/>
          <p:cNvSpPr/>
          <p:nvPr/>
        </p:nvSpPr>
        <p:spPr>
          <a:xfrm>
            <a:off x="38098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41"/>
          <p:cNvSpPr/>
          <p:nvPr/>
        </p:nvSpPr>
        <p:spPr>
          <a:xfrm>
            <a:off x="38098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38098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43"/>
          <p:cNvSpPr/>
          <p:nvPr/>
        </p:nvSpPr>
        <p:spPr>
          <a:xfrm>
            <a:off x="54100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44"/>
          <p:cNvSpPr/>
          <p:nvPr/>
        </p:nvSpPr>
        <p:spPr>
          <a:xfrm>
            <a:off x="54100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45"/>
          <p:cNvSpPr/>
          <p:nvPr/>
        </p:nvSpPr>
        <p:spPr>
          <a:xfrm>
            <a:off x="54100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46"/>
          <p:cNvSpPr/>
          <p:nvPr/>
        </p:nvSpPr>
        <p:spPr>
          <a:xfrm>
            <a:off x="54100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7"/>
          <p:cNvSpPr/>
          <p:nvPr/>
        </p:nvSpPr>
        <p:spPr>
          <a:xfrm>
            <a:off x="54100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48"/>
          <p:cNvSpPr/>
          <p:nvPr/>
        </p:nvSpPr>
        <p:spPr>
          <a:xfrm>
            <a:off x="70102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49"/>
          <p:cNvSpPr/>
          <p:nvPr/>
        </p:nvSpPr>
        <p:spPr>
          <a:xfrm>
            <a:off x="70102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50"/>
          <p:cNvSpPr/>
          <p:nvPr/>
        </p:nvSpPr>
        <p:spPr>
          <a:xfrm>
            <a:off x="70102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51"/>
          <p:cNvSpPr/>
          <p:nvPr/>
        </p:nvSpPr>
        <p:spPr>
          <a:xfrm>
            <a:off x="70102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2"/>
          <p:cNvSpPr/>
          <p:nvPr/>
        </p:nvSpPr>
        <p:spPr>
          <a:xfrm>
            <a:off x="70102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ll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’l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ll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you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ill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ll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’l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ll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y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ill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s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s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7696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s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s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7696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s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e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s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7696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h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n’t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n’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s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re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s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7696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r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s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t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s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e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ombo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’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ombo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m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ombo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’v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ombo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7696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av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ombo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esn’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ombo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o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n’t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7" name="AutoShape 4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52120" y="2590560"/>
            <a:ext cx="58676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ombo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’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ombo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1760" y="2590560"/>
            <a:ext cx="784836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oul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ombo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on’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ombo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7696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ill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n’t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dn’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n’t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3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520" y="2514600"/>
            <a:ext cx="62485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i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n’t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2 words that make up the contrac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sn’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n’t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9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2590560"/>
            <a:ext cx="72392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a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  :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5:45:55Z</dcterms:created>
  <dc:creator>Shana Whitlock</dc:creator>
  <dc:description/>
  <dc:language>en-US</dc:language>
  <cp:lastModifiedBy>Laura McDow</cp:lastModifiedBy>
  <dcterms:modified xsi:type="dcterms:W3CDTF">2010-09-21T15:19:07Z</dcterms:modified>
  <cp:revision>30</cp:revision>
  <dc:subject>Reading</dc:subject>
  <dc:title>Jeopardy-Contractions</dc:title>
</cp:coreProperties>
</file>